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9.jpeg" ContentType="image/jpeg"/>
  <Override PartName="/ppt/media/image1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038-0C15-44F4-B3E1-18757864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720-6846-483E-8049-20F35D5D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B9A94-1537-42DB-B2AC-2E66AABC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180B7-811B-4BAA-BEC6-B39E9775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1B355-2E1E-4DD2-926A-2D521625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A208A-EEDC-49F8-B73B-5B466253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51518-35FC-4049-88CF-53E3AC8D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AB60D-070B-4AC5-8C41-B148DAAE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FF97C-9316-4688-AB4C-6BB2BC2E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1D00B-6CF6-43C7-9044-D84D5C31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11883-166D-43E7-860E-9A652A94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DBF-83DD-4EEA-BC05-00B6977E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F2D-FBF6-44A1-9F18-57E8DDC0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7127-4CDE-4489-B4BA-4CF15B0B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3456-1C88-41CB-82BE-32333629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7C3D-19D9-4684-85B0-B33F1AB8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A1C7-1401-4809-941D-A28694D6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A543-D0BA-422F-AC47-89983F43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4010-CA74-42F6-BB04-5BD5AE96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114B-493C-4015-852D-29EDB740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FBE-30B3-4067-878E-AE3431A7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7C9A-BF91-46BB-AF55-0209BEB5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33AE-08E7-47A4-B8E6-FC561F3B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8EB1-2ED2-4691-AE4C-87B1A942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6E73-3640-45CD-BEFA-F333A8DB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6C04-4A5B-47DB-88D1-7E7145BA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ADAAA-6B39-48EE-9569-92130082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E9A16-9929-41F0-901F-31BC7373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22C01-27FE-4573-AB04-2A44617B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8BAA3-888A-4852-8EE8-6CDDDDF7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FE55F-6A6B-420D-BFAA-93236D45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314-B500-4FAC-8537-1868A4B0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3E991-C7BC-4B2D-923B-770049D8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BD3CA-0A04-4925-AB8C-C0182319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753F8-52D2-4E73-96EB-23516BED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7E600-4D5E-4B5D-944F-B7ACCDF1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C5C89-A0F2-403C-BE46-DCAA9732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25642-2B7B-4C5A-9451-BA895F53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355E3-246C-41EE-A2F3-B399E2E3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C532-58C5-4B5D-AD3F-C6DA6FCD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972F-6429-4DE2-B41D-0B6E39C7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D091-EAE6-4A19-AEF2-9FFE55E3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61A-DA13-461A-8F61-8579F5CC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108BC-4D6D-4686-8625-E0B1C39E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A1647-62B0-4A0D-8FAC-8F9BD12C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E77C-F0A1-44E2-AE00-5DA7616D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0442C-089E-440A-898E-9121790F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3635D-F984-4C53-9901-930BE701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C9124-85CF-4ED2-B1FA-CE31409C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FAD5C-427A-4762-A8F9-FB9331B5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B572F-D6A0-426C-B951-934700D6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F29F9-212A-41A8-9CB2-ABD09086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BC37D-DAE5-4EDB-92B8-C5D3C01B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5B3-4659-43EF-BF45-C8D6A4BE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B6CF8-6AFE-4328-9D5F-58333F59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5D713-58D6-441E-9522-14D18253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6BEAC-95B7-49CC-8754-583F1413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EE29D-4312-4ACE-A9D8-435B8D5A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073D2-4C82-428C-8072-02D0EFA9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CE7B2-7A0B-4B69-809B-2AEC1501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48262-8311-48A8-8652-2975436D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6D8DD-A991-408A-A6A1-B5C29856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79784-D96E-4EAD-BD68-BF3FF1C9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7327A-94EE-4973-9EB0-88F4387E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9FF-8378-4CE3-88EA-9B89CC62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23F8C-566F-4CD7-A9D8-94A1A613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BC1994-FB62-4B7C-966A-170E739D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E6A81-062C-4A55-9AEB-BF68F203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9026D-28A3-47C7-82E5-6BCB1BF6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B60A3-AA89-4546-B99F-A8FB2836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719D4-8AA1-46CB-8631-6C50F3EE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C0B33-5A53-4F78-AA8C-CB934315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4DD89-58D9-4458-9A62-A3733FA5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E4F32-1B98-42DD-A9F2-CB76A4F4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8EBA64-20DA-4809-94EA-B990832B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A73-8D22-47CC-BC7F-FC185988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30518-FEC4-47AA-A14A-2F15C975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8E3B4-866D-4F2B-B78B-BBE97BBD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C152D7-95F2-40DD-B8BA-C7ED1C63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3E9A2-42A0-47E3-B3D4-28FDA18A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92A1A-0972-4746-A0DE-039B3F1B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5FF57D-E219-48CF-BD32-4FF1149D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2B1BB-50B8-4F58-A291-26EF8980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41EDC-3A94-45D7-A5B5-DDFAD242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FDF30-5098-4B00-856D-28FE85B4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62681-D93E-4DF9-90AE-5E8EAFEC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1E7-681D-4D3A-86A0-E4157981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D1CCA-C258-40F2-9020-BD5E9235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7EABD-6DE4-4430-92ED-6A80B543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5D89E-C252-4CBA-927F-024C1FC3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91694E-6655-425F-BF52-CFEF68C5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BB01A-E566-4432-95D8-24ED7A52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F1C1D-5E2F-4A5C-85FC-01085BF0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326A2-0A08-4169-9CEE-D4713B92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F3767-E3D5-45FD-AF00-4B54B094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FCE49-9A19-4693-BE2D-6D13CE70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81E8D-F01D-4F41-9C7E-995F6907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38D-6819-4148-A735-E4224CF8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8EA3D-5592-4A2A-82F9-35A9714C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582F9-9F75-4F0E-8564-21357EF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74D0A-E05C-4B7E-9F4B-F1E6A987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A59E7-9358-4FFA-A368-4EC7A26E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1B96F-895A-4513-B897-F8F2FC49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0B450-D2FA-452E-BD99-BD7E5755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C5764-8814-4A8D-9658-09F5C9D8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9A8D2-65DA-42A9-96EE-87E3E0FB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4DA74-9C4F-4EA8-B4EE-98E7D737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51BD1-CC90-4B69-AF95-3A0D2DC6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63E5-B2A5-4D52-818C-FEAD95E585E4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78CA-1C75-4F28-87E0-3E03DC6E1486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tango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tango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tango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nettore 1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ttore 1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nettore 1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nettore 1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ttore 1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ttore 1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CD85-3F4D-477B-B6CC-9BFD78449ED4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D4CB-7C34-44F8-B0E8-0F0FBC8AC755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062C-DB53-43F9-A4B6-55EFA7659ECC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4638-D348-4B31-9FEF-4039BD925D6E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tango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tango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nettore 1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nettore 1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nettore 1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ttore 1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nettore 1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tango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nettore 1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FD42-1EE1-41CB-8A9A-8F9DE0D6C5FC}" type="datetime">
              <a:rPr b="0" lang="en-AU" sz="1200" spc="-1" strike="noStrike">
                <a:solidFill>
                  <a:srgbClr val="fff39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39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E0C9-D417-4401-9422-E5FF8E3F25C5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D1C2-9C84-49B4-B378-4977917FC362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C609-6113-4896-A7D0-ECD67D43A6B4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nettore 1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2A0B-87E8-4D50-925E-A4E072CB5C02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8D71-204B-4589-AC8B-BABF834F4A46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tango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nettore 1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308A-5EB5-4810-ADCF-C9F51D1F9E1A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A733-9B1F-40A4-BAE8-BED62CA93810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136D-B8B8-4D9F-831B-07950C4D435E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9065-6E34-43DC-B448-C7C7267246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431C-7597-4C11-83E0-19AF90F69858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1863-73A6-4CBD-8BB0-7E1DBB81E0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ASSORBIMENTO ATOM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75f6d"/>
                </a:solidFill>
                <a:latin typeface="Century Schoolbook"/>
              </a:rPr>
              <a:t>CLASSE 3 AP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Segnaposto piè di pagina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75f6d"/>
                </a:solidFill>
                <a:latin typeface="Century Schoolbook"/>
              </a:rPr>
              <a:t>ASSORBIMENTO ATOMICO A FIAMMA (FAAS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Segnaposto piè di pagina 1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614520" y="5877000"/>
            <a:ext cx="79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combustibile (acetilene) + comburente (aria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fia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2"/>
          <p:cNvGrpSpPr/>
          <p:nvPr/>
        </p:nvGrpSpPr>
        <p:grpSpPr>
          <a:xfrm>
            <a:off x="770040" y="1484280"/>
            <a:ext cx="7603560" cy="3884760"/>
            <a:chOff x="770040" y="1484280"/>
            <a:chExt cx="7603560" cy="3884760"/>
          </a:xfrm>
        </p:grpSpPr>
        <p:pic>
          <p:nvPicPr>
            <p:cNvPr id="484" name="Picture 4" descr="FAAS"/>
            <p:cNvPicPr/>
            <p:nvPr/>
          </p:nvPicPr>
          <p:blipFill>
            <a:blip r:embed="rId1"/>
            <a:stretch/>
          </p:blipFill>
          <p:spPr>
            <a:xfrm>
              <a:off x="3520800" y="1484280"/>
              <a:ext cx="4852800" cy="388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Text Box 5"/>
            <p:cNvSpPr/>
            <p:nvPr/>
          </p:nvSpPr>
          <p:spPr>
            <a:xfrm>
              <a:off x="1128600" y="3387960"/>
              <a:ext cx="189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entury Schoolbook"/>
                </a:rPr>
                <a:t>regolazione dei 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 flipV="1">
              <a:off x="3101760" y="3705840"/>
              <a:ext cx="1399680" cy="126000"/>
            </a:xfrm>
            <a:prstGeom prst="line">
              <a:avLst/>
            </a:prstGeom>
            <a:ln w="25560">
              <a:solidFill>
                <a:srgbClr val="fff39d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7"/>
            <p:cNvSpPr/>
            <p:nvPr/>
          </p:nvSpPr>
          <p:spPr>
            <a:xfrm>
              <a:off x="1198440" y="1940040"/>
              <a:ext cx="196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entury Schoolbook"/>
                </a:rPr>
                <a:t>comparto della fiam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8"/>
            <p:cNvSpPr/>
            <p:nvPr/>
          </p:nvSpPr>
          <p:spPr>
            <a:xfrm>
              <a:off x="3304440" y="2448000"/>
              <a:ext cx="1981800" cy="38160"/>
            </a:xfrm>
            <a:prstGeom prst="line">
              <a:avLst/>
            </a:prstGeom>
            <a:ln w="25560">
              <a:solidFill>
                <a:srgbClr val="fff39d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9"/>
            <p:cNvSpPr/>
            <p:nvPr/>
          </p:nvSpPr>
          <p:spPr>
            <a:xfrm>
              <a:off x="770040" y="4546800"/>
              <a:ext cx="23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entury Schoolbook"/>
                </a:rPr>
                <a:t>introduzione del camp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0"/>
            <p:cNvSpPr/>
            <p:nvPr/>
          </p:nvSpPr>
          <p:spPr>
            <a:xfrm flipV="1">
              <a:off x="3161520" y="4572000"/>
              <a:ext cx="2786760" cy="419040"/>
            </a:xfrm>
            <a:prstGeom prst="line">
              <a:avLst/>
            </a:prstGeom>
            <a:ln w="25560">
              <a:solidFill>
                <a:srgbClr val="fff39d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4516560" y="4076640"/>
            <a:ext cx="3727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aspirazione i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segnale dipendente dalla concentrazione e non dalla m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4284720" y="2421000"/>
            <a:ext cx="21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cammino ot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" descr="burner"/>
          <p:cNvPicPr/>
          <p:nvPr/>
        </p:nvPicPr>
        <p:blipFill>
          <a:blip r:embed="rId1"/>
          <a:stretch/>
        </p:blipFill>
        <p:spPr>
          <a:xfrm>
            <a:off x="611280" y="1484280"/>
            <a:ext cx="3208320" cy="4549680"/>
          </a:xfrm>
          <a:prstGeom prst="rect">
            <a:avLst/>
          </a:prstGeom>
          <a:ln w="0">
            <a:noFill/>
          </a:ln>
        </p:spPr>
      </p:pic>
      <p:sp>
        <p:nvSpPr>
          <p:cNvPr id="494" name="Line 5"/>
          <p:cNvSpPr/>
          <p:nvPr/>
        </p:nvSpPr>
        <p:spPr>
          <a:xfrm flipH="1">
            <a:off x="1386000" y="3236760"/>
            <a:ext cx="1898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3072960" y="2779560"/>
            <a:ext cx="1125720" cy="381240"/>
          </a:xfrm>
          <a:prstGeom prst="line">
            <a:avLst/>
          </a:prstGeom>
          <a:ln w="25560">
            <a:solidFill>
              <a:srgbClr val="fff39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H="1">
            <a:off x="2949120" y="4608360"/>
            <a:ext cx="1406520" cy="533520"/>
          </a:xfrm>
          <a:prstGeom prst="line">
            <a:avLst/>
          </a:prstGeom>
          <a:ln w="25560">
            <a:solidFill>
              <a:srgbClr val="fff39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75f6d"/>
                </a:solidFill>
                <a:latin typeface="Century Schoolbook"/>
              </a:rPr>
              <a:t>ASSORBIMENTO ATOMICO A FIAMMA (FAAS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Segnaposto piè di pagina 8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FORNETTI DI GRAFI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4520" y="2914560"/>
            <a:ext cx="3813120" cy="14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Il fornetto di grafite ha dimensioni di pochi c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La tecnica è nota anche come GF-AA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Segnaposto piè di pagina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Fornetto di grafite"/>
          <p:cNvPicPr/>
          <p:nvPr/>
        </p:nvPicPr>
        <p:blipFill>
          <a:blip r:embed="rId1"/>
          <a:stretch/>
        </p:blipFill>
        <p:spPr>
          <a:xfrm>
            <a:off x="4948200" y="1622520"/>
            <a:ext cx="3511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LIMITI DI RIVELABILITÀ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Segnaposto piè di pagina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55344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ARATTERISTICHE DELL’ ASSORBIMENT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2611c"/>
                </a:solidFill>
                <a:latin typeface="Century Schoolbook"/>
              </a:rPr>
              <a:t>Assorbiment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processo in cui il fotone promuove l’eccitazione dell’elettr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plica  transizioni da uno stato “fondamentale” di  energia ad uno “eccitato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+ 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→ M*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involge quantità discrete di energia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foton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 transizione elettron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tinguiamo due tipi di  assorbiment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524"/>
              </a:spcBef>
              <a:buClr>
                <a:srgbClr val="6685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tomic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524"/>
              </a:spcBef>
              <a:buClr>
                <a:srgbClr val="6685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lecolar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Segnaposto piè di pagina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OME LA RADIAZIONE INTERAGISCE CON LA MATERIA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4033800" cy="45244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437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’atomo è la più piccola parte della materi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’costituito da un nucleo (protoni e neutroni) circondato da elettroni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Segnaposto piè di pagina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TRANSIZIONI ELETTRONICHE E FOTON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Segnaposto piè di pagina 7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3" descr="energyjump"/>
          <p:cNvPicPr/>
          <p:nvPr/>
        </p:nvPicPr>
        <p:blipFill>
          <a:blip r:embed="rId1"/>
          <a:stretch/>
        </p:blipFill>
        <p:spPr>
          <a:xfrm>
            <a:off x="838080" y="2514600"/>
            <a:ext cx="7086600" cy="40878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4"/>
          <p:cNvSpPr/>
          <p:nvPr/>
        </p:nvSpPr>
        <p:spPr>
          <a:xfrm>
            <a:off x="0" y="304920"/>
            <a:ext cx="866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80880" y="990720"/>
            <a:ext cx="839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’energia del fotone è esattamente uguale alla differenza di energia tra lo stato fondamentale e uno degli stati eccitati della particel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304920" y="1405080"/>
            <a:ext cx="3646440" cy="27828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"/>
          <p:cNvPicPr/>
          <p:nvPr/>
        </p:nvPicPr>
        <p:blipFill>
          <a:blip r:embed="rId2"/>
          <a:stretch/>
        </p:blipFill>
        <p:spPr>
          <a:xfrm>
            <a:off x="457200" y="4410000"/>
            <a:ext cx="4038480" cy="1252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762120" y="228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ideriamo l’ idrogeno, l’atomo più sempl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Segnaposto piè di pagina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4343400" y="1371600"/>
            <a:ext cx="4038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gni atomo ha un numero limitato di livelli energetici discre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tanto, solo i fotoni di una certa energia  possono interagire con gli  elettroni in un dato ato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SPETTRI ATOMICI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Segnaposto piè di pagina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609480" y="990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gni atomo ha uno specifico set di livelli energetici, e pertanto solo certi fotoni con opportun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ossono interag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elemental lines"/>
          <p:cNvPicPr/>
          <p:nvPr/>
        </p:nvPicPr>
        <p:blipFill>
          <a:blip r:embed="rId1"/>
          <a:stretch/>
        </p:blipFill>
        <p:spPr>
          <a:xfrm>
            <a:off x="609480" y="2228760"/>
            <a:ext cx="76201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PRINCIPIO TEOR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la tecnica consiste nel vaporizzare un campione portandolo allo stato di atomi neutri. Questo si fa in genere immergendo i vapori della soluzione o in sospensioni del campione – in acqua o in solvente organico- in una fiamma, ad es. Acetilene aria. A questo punto la fiamma viene attraversata da una radiazione caratteristica dell’atomo del campione che interessa .La radiazione è emessa da una apposita lampada detta lampada a catodo cavo , specifica per l’elemento in questione . La radiazione lasciando la fiamma avrà perso di intensità perché ci sarà stato un certo assorbimento da parte del campi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Segnaposto piè di pagina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75f6d"/>
                </a:solidFill>
                <a:latin typeface="Century Schoolbook"/>
              </a:rPr>
              <a:t>SPETTROSCOPIA ATOMICA: ASSORBIMENT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14160" y="1268280"/>
            <a:ext cx="791676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il campione è trasformato in atomi con metodi vari di riscalda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il vapore atomico subisce un’interazione con la luce emessa da una sorgente luminosa (righ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la riga viene assorbita solo dagli atomi corrispondenti mediante l’assorbimento di rison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l’entità di questa interazione fornisce la risposta analit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6685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qualitativa (quali elementi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04760" indent="-182520">
              <a:lnSpc>
                <a:spcPct val="90000"/>
              </a:lnSpc>
              <a:spcBef>
                <a:spcPts val="451"/>
              </a:spcBef>
              <a:buClr>
                <a:srgbClr val="546e9f"/>
              </a:buClr>
              <a:buSzPct val="6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identificazione attraverso l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assorbi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6685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quantitativa (qual è la concentrazion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04760" indent="-182520">
              <a:lnSpc>
                <a:spcPct val="90000"/>
              </a:lnSpc>
              <a:spcBef>
                <a:spcPts val="451"/>
              </a:spcBef>
              <a:buClr>
                <a:srgbClr val="546e9f"/>
              </a:buClr>
              <a:buSzPct val="6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calibrazione con soluzioni a concentrazione not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04760" indent="-182520">
              <a:lnSpc>
                <a:spcPct val="90000"/>
              </a:lnSpc>
              <a:spcBef>
                <a:spcPts val="451"/>
              </a:spcBef>
              <a:buClr>
                <a:srgbClr val="546e9f"/>
              </a:buClr>
              <a:buSzPct val="6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legge di Lambert-Beer (A =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bC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Segnaposto piè di pagina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SPETTROFOTOMETRIA A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6" name="Segnaposto piè di pagina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Schema AAS"/>
          <p:cNvPicPr/>
          <p:nvPr/>
        </p:nvPicPr>
        <p:blipFill>
          <a:blip r:embed="rId1"/>
          <a:stretch/>
        </p:blipFill>
        <p:spPr>
          <a:xfrm>
            <a:off x="1631880" y="1989000"/>
            <a:ext cx="588960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8" name="Object 4"/>
          <p:cNvGraphicFramePr/>
          <p:nvPr/>
        </p:nvGraphicFramePr>
        <p:xfrm>
          <a:off x="1042920" y="4719600"/>
          <a:ext cx="7067520" cy="1473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4719600"/>
                    <a:ext cx="706752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9:52:55Z</dcterms:created>
  <dc:creator>Smauro</dc:creator>
  <dc:description/>
  <dc:language>en-US</dc:language>
  <cp:lastModifiedBy>Smauro</cp:lastModifiedBy>
  <dcterms:modified xsi:type="dcterms:W3CDTF">2013-02-17T13:32:03Z</dcterms:modified>
  <cp:revision>10</cp:revision>
  <dc:subject/>
  <dc:title>ASSORBIMENTO ATOMICO</dc:title>
</cp:coreProperties>
</file>